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B86-E0E4-4B28-87B6-9E7B9A23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520-BAA0-47D3-BA3E-3BEBCCEF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C33-D240-48D0-BE64-4594849B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52F-B4EB-431A-A59A-D6FBF5D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AD8-1396-44B8-A5A7-495680B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638-7C87-4BD1-9324-742FD9B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86-1ADF-4D4D-B20A-351CA766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9A8-3937-473B-BDA8-3D703FF6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8D4-7EB4-45A7-95A6-D42F0AA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34C-EC94-4EB0-BBEB-5D2E50B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4B9-7E85-4EE5-AA35-57D3014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163-2152-4F67-B7BB-4A21972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D3D8-7B5C-420F-8F88-7F977C10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hotosynthesis Review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stroma arrows"/>
          <p:cNvPicPr/>
          <p:nvPr/>
        </p:nvPicPr>
        <p:blipFill>
          <a:blip r:embed="rId1"/>
          <a:srcRect l="0" t="0" r="3448" b="8223"/>
          <a:stretch/>
        </p:blipFill>
        <p:spPr>
          <a:xfrm>
            <a:off x="2286000" y="2971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nd plants get the carbon dioxide needed for photosynthesis from th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do water plants like algae get their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320" y="13716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4568760"/>
            <a:ext cx="95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high energy electron carrier that picks up electrons and 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ons when water is split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28800" y="5867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138760" y="3276720"/>
            <a:ext cx="52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om the water in which they l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193280" y="6094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6" name="Picture 16" descr="chipmunkseeds"/>
          <p:cNvPicPr/>
          <p:nvPr/>
        </p:nvPicPr>
        <p:blipFill>
          <a:blip r:embed="rId1"/>
          <a:srcRect l="17999" t="28004" r="28001" b="17999"/>
          <a:stretch/>
        </p:blipFill>
        <p:spPr>
          <a:xfrm>
            <a:off x="5105520" y="243828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3892680" y="5715000"/>
            <a:ext cx="42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Times New Roman"/>
              </a:rPr>
              <a:t>Image from: http://www.entm.purdue.edu/wildlife/chipmunk_pictures.htm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2 sets of reactions that make up photosyn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is called  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353760" y="434340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4800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2 is called ________________.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57600" y="4876920"/>
            <a:ext cx="4648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or Light-independent Reactions)</a:t>
            </a:r>
            <a:endParaRPr b="0" lang="en-US" sz="2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2362320" y="304920"/>
            <a:ext cx="182880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281952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895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reactants and products for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1523880" y="5029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and NAD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6" name="AutoShape 1030"/>
          <p:cNvSpPr/>
          <p:nvPr/>
        </p:nvSpPr>
        <p:spPr>
          <a:xfrm>
            <a:off x="2362320" y="304920"/>
            <a:ext cx="198108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ight Dependent Reactions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7" name="AutoShape 1031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8" name="AutoShape 1032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9" name="AutoShape 1033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0" name="AutoShape 1034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1" name="AutoShape 1035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2" name="AutoShape 1036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3" name="Rectangle 103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4" name="Rectangle 1039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5" name="Text Box 1040"/>
          <p:cNvSpPr/>
          <p:nvPr/>
        </p:nvSpPr>
        <p:spPr>
          <a:xfrm>
            <a:off x="11430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6" name="Text Box 1041"/>
          <p:cNvSpPr/>
          <p:nvPr/>
        </p:nvSpPr>
        <p:spPr>
          <a:xfrm>
            <a:off x="2895480" y="106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7" name="Text Box 1042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8" name="Rectangle 1043"/>
          <p:cNvSpPr/>
          <p:nvPr/>
        </p:nvSpPr>
        <p:spPr>
          <a:xfrm>
            <a:off x="1522800" y="434340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NLIGHT and 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9" name="Rectangle 1046"/>
          <p:cNvSpPr/>
          <p:nvPr/>
        </p:nvSpPr>
        <p:spPr>
          <a:xfrm>
            <a:off x="4802040" y="45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0" name="Rectangle 1047"/>
          <p:cNvSpPr/>
          <p:nvPr/>
        </p:nvSpPr>
        <p:spPr>
          <a:xfrm>
            <a:off x="2056680" y="5715000"/>
            <a:ext cx="151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reactants and products for the Calvi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28"/>
          <p:cNvSpPr/>
          <p:nvPr/>
        </p:nvSpPr>
        <p:spPr>
          <a:xfrm>
            <a:off x="1828800" y="5105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3" name="AutoShape 1029"/>
          <p:cNvSpPr/>
          <p:nvPr/>
        </p:nvSpPr>
        <p:spPr>
          <a:xfrm>
            <a:off x="2362320" y="304920"/>
            <a:ext cx="182880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4" name="AutoShape 1030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5" name="AutoShape 1031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6" name="AutoShape 1032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7" name="AutoShape 1033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8" name="AutoShape 1034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9" name="AutoShape 1035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0" name="Rectangle 103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1" name="Rectangle 103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2" name="Text Box 1039"/>
          <p:cNvSpPr/>
          <p:nvPr/>
        </p:nvSpPr>
        <p:spPr>
          <a:xfrm>
            <a:off x="27432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3" name="Text Box 1040"/>
          <p:cNvSpPr/>
          <p:nvPr/>
        </p:nvSpPr>
        <p:spPr>
          <a:xfrm>
            <a:off x="114300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4" name="Text Box 1041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5" name="Rectangle 1042"/>
          <p:cNvSpPr/>
          <p:nvPr/>
        </p:nvSpPr>
        <p:spPr>
          <a:xfrm>
            <a:off x="1904400" y="449568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&amp; NADP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6" name="Rectangle 1043"/>
          <p:cNvSpPr/>
          <p:nvPr/>
        </p:nvSpPr>
        <p:spPr>
          <a:xfrm>
            <a:off x="2442240" y="160020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lvi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7" name="Rectangle 1044"/>
          <p:cNvSpPr/>
          <p:nvPr/>
        </p:nvSpPr>
        <p:spPr>
          <a:xfrm>
            <a:off x="472608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8" name="Rectangle 1045"/>
          <p:cNvSpPr/>
          <p:nvPr/>
        </p:nvSpPr>
        <p:spPr>
          <a:xfrm>
            <a:off x="1981080" y="5791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ga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ace surrounding the thylakoids is called the 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600200" y="91440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04920" y="1828800"/>
            <a:ext cx="8839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s of thylakoids are called  ________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ere talking about only one of the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ould call it a 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photosynthetic pigment 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plants = ____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629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269240" y="35305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u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734640" y="518148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lusters of proteins in the thylakoid membrane that collect light 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es the Calvin cycle happ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rotein that helps chemical re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pen faster in living things is called an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192920" y="139716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STEM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904400" y="348300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the stroma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602720" y="5334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lvin cycle requires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2057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LSE: It is light INDEPENDE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90720" y="3505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-Dependent Reactions break apart ________ and give off  _______ gas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9528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486040" y="41148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ack of membrane sacs is called a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happens 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753920" y="25146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num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35560" y="502920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ght dependent reac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7" name="Picture 6" descr="thylakoids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pace aroun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na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happens 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8480" y="1676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32640" y="388620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Picture 6" descr="stroma arrows"/>
          <p:cNvPicPr/>
          <p:nvPr/>
        </p:nvPicPr>
        <p:blipFill>
          <a:blip r:embed="rId1"/>
          <a:srcRect l="0" t="0" r="3448" b="8223"/>
          <a:stretch/>
        </p:blipFill>
        <p:spPr>
          <a:xfrm>
            <a:off x="4648320" y="685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gree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cause th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 green wavelengths of 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sorb          refl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917280" y="8380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flec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04920" y="3476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synthesis in plants takes plac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ide which organelle?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95480" y="4800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pigment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orange or y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ead of 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that can make its own food like a green plant is called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7240" y="30492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otenoid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39160" y="49528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5" name="Picture 6" descr="carrots_d"/>
          <p:cNvPicPr/>
          <p:nvPr/>
        </p:nvPicPr>
        <p:blipFill>
          <a:blip r:embed="rId1"/>
          <a:stretch/>
        </p:blipFill>
        <p:spPr>
          <a:xfrm>
            <a:off x="5867280" y="3049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5357880" y="0"/>
            <a:ext cx="378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rnzih.org.nz/images/gardenimages/carrots_d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that interact in a chemical reaction that are written on the left side of a chemical equation 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that CAN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 make its own food and must get its energy from consuming other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21120" y="20574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actan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745000" y="510552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057400" y="548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ctions of photosynthesis that use light energy to produce 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rge protein in the thylakoid membrane that uses energy from H+ ions to join ADP and a phosphate group to make 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5320" y="228600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058480" y="54896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like a green plan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ke its own fo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 made of ribose, adenine, and 3 phosphates used by living things to store and release ener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297080" y="16765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726440" y="472428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gments that are yellow or orange not 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usters of light colle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ins found in the thylako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ace surrounding the thylako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 a chlorop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354480" y="121932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otenoid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344120" y="35812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stem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94540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cess by which plants and some other organisms use sunlight to convert water and carbon dioxide (CO2) into oxygen (O2) and high energy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ck of thylakoid membra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744640" y="312408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134080" y="533412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NUM (pl. GRANA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hange in shape of a protein at extremes of temperature or 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carbon sugar molecule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ain product of photosynthesis and is used as the fuel burned by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906200" y="160020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naturing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4120" y="49528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ctions of photosynthesis in which energy from ATP and NADPH is used to build high energy sugar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atively charged particle found circling the nucleu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21840" y="198108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905120" y="3432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40800" y="495288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sitively charged particle found in the nucleu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organelle containing thylakoid stacks where photosynthesis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part of photosynthesis is oxygen produc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058840" y="152388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97640" y="34290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58840" y="548964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icle without an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in the nucleus of a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s that have gained or lost electrons so they have an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ment of molecules from higher concentration to lower concentration until equilibrium is rea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82520" y="16002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1480" y="36576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325560" y="54864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carefully measured the seed, water , and soil and concluded that the increase in mass of the plant came from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03440" y="175248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an van Helmo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3733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371600" y="5486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Joseph  Priestly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34360" y="4267080"/>
            <a:ext cx="747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knew that a plant in a bell jar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uld generate 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ir.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24280" y="4037760"/>
            <a:ext cx="416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nofretete-page.de/gemischtNeu/TN_plant_grow_w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Picture 12" descr="priestley lens"/>
          <p:cNvPicPr/>
          <p:nvPr/>
        </p:nvPicPr>
        <p:blipFill>
          <a:blip r:embed="rId1"/>
          <a:stretch/>
        </p:blipFill>
        <p:spPr>
          <a:xfrm>
            <a:off x="6477120" y="5181480"/>
            <a:ext cx="2019240" cy="1406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2895480" y="6248520"/>
            <a:ext cx="3429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www2.nsta.org/Energy/find/primer/primer2_8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5" name="Picture 8" descr="plant_grow_w"/>
          <p:cNvPicPr/>
          <p:nvPr/>
        </p:nvPicPr>
        <p:blipFill>
          <a:blip r:embed="rId2"/>
          <a:stretch/>
        </p:blipFill>
        <p:spPr>
          <a:xfrm>
            <a:off x="7086600" y="1905120"/>
            <a:ext cx="960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that are produced during a chemical reaction that are written on the right side of a chemical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energy electron carrier which receives electrons and H+ ions when water splits during the light dependent re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27"/>
          <p:cNvSpPr/>
          <p:nvPr/>
        </p:nvSpPr>
        <p:spPr>
          <a:xfrm>
            <a:off x="2667960" y="22096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1" name="Rectangle 1028"/>
          <p:cNvSpPr/>
          <p:nvPr/>
        </p:nvSpPr>
        <p:spPr>
          <a:xfrm>
            <a:off x="1905120" y="3432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2" name="Rectangle 1029"/>
          <p:cNvSpPr/>
          <p:nvPr/>
        </p:nvSpPr>
        <p:spPr>
          <a:xfrm>
            <a:off x="2069640" y="54896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ce in concentration in one place compared to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p of membrane proteins that transfers electrons between Photosystem II and I during the light-dependent reaction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27"/>
          <p:cNvSpPr/>
          <p:nvPr/>
        </p:nvSpPr>
        <p:spPr>
          <a:xfrm>
            <a:off x="1373400" y="16765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entration gradien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85800" y="5791320"/>
            <a:ext cx="73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 TRANSPORT CHA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600" y="3048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bel molecules of the light dependent rea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292760" y="4800600"/>
            <a:ext cx="47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lectron Transport Chai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523880" y="4267080"/>
            <a:ext cx="37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OTOSYSTEM II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447560" y="548640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OTOSYSTEM I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523520" y="60199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1" name="Picture 11" descr="light depend color letters"/>
          <p:cNvPicPr/>
          <p:nvPr/>
        </p:nvPicPr>
        <p:blipFill>
          <a:blip r:embed="rId1"/>
          <a:stretch/>
        </p:blipFill>
        <p:spPr>
          <a:xfrm>
            <a:off x="990720" y="228600"/>
            <a:ext cx="758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ion moves across the membrane to power the ATP synthase enzyme to add a phosphate to AD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 the  carbon atoms come from that end up in carbohydrates made by the Calvin cyc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gas that we need is given 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ing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65800" y="220968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(Hydrogen ion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449360" y="452124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714640" y="59436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 H+ ions build up as water is broken down and the light dependent reactions are happen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to does the ATP and NADPH produced during the light-dependent phase end u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449360" y="205740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ylakoid spac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30040" y="54100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t is used by the Calvin cycle to make sugar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320004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el reactants and products for photosynth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4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5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27"/>
          <p:cNvSpPr/>
          <p:nvPr/>
        </p:nvSpPr>
        <p:spPr>
          <a:xfrm>
            <a:off x="1293840" y="495288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1" name="Rectangle 1028"/>
          <p:cNvSpPr/>
          <p:nvPr/>
        </p:nvSpPr>
        <p:spPr>
          <a:xfrm>
            <a:off x="1449000" y="373392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2" name="Rectangle 1029"/>
          <p:cNvSpPr/>
          <p:nvPr/>
        </p:nvSpPr>
        <p:spPr>
          <a:xfrm>
            <a:off x="1295280" y="426708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3" name="Rectangle 1031"/>
          <p:cNvSpPr/>
          <p:nvPr/>
        </p:nvSpPr>
        <p:spPr>
          <a:xfrm>
            <a:off x="1524240" y="548640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GA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44" name="Picture 1034" descr="chloro wo labels"/>
          <p:cNvPicPr/>
          <p:nvPr/>
        </p:nvPicPr>
        <p:blipFill>
          <a:blip r:embed="rId1"/>
          <a:stretch/>
        </p:blipFill>
        <p:spPr>
          <a:xfrm>
            <a:off x="1905120" y="0"/>
            <a:ext cx="4952880" cy="3328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36"/>
          <p:cNvSpPr/>
          <p:nvPr/>
        </p:nvSpPr>
        <p:spPr>
          <a:xfrm>
            <a:off x="1373040" y="60958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 energ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is broken to provide the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make NAD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spins as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ons pass through to the other side of the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688760" y="1600200"/>
            <a:ext cx="102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4960" y="47498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the chemical symbol for th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logically important atoms &amp; 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ogen ion 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o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xy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tro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osphorus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27"/>
          <p:cNvSpPr/>
          <p:nvPr/>
        </p:nvSpPr>
        <p:spPr>
          <a:xfrm>
            <a:off x="2516040" y="2590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1" name="Rectangle 1028"/>
          <p:cNvSpPr/>
          <p:nvPr/>
        </p:nvSpPr>
        <p:spPr>
          <a:xfrm>
            <a:off x="2820600" y="342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2" name="Rectangle 1029"/>
          <p:cNvSpPr/>
          <p:nvPr/>
        </p:nvSpPr>
        <p:spPr>
          <a:xfrm>
            <a:off x="2516040" y="487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3" name="Rectangle 1030"/>
          <p:cNvSpPr/>
          <p:nvPr/>
        </p:nvSpPr>
        <p:spPr>
          <a:xfrm>
            <a:off x="320256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4" name="Rectangle 1031"/>
          <p:cNvSpPr/>
          <p:nvPr/>
        </p:nvSpPr>
        <p:spPr>
          <a:xfrm>
            <a:off x="2439360" y="39625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5" name="Rectangle 1037"/>
          <p:cNvSpPr/>
          <p:nvPr/>
        </p:nvSpPr>
        <p:spPr>
          <a:xfrm>
            <a:off x="8087400" y="259092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(n)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954680" y="685800"/>
            <a:ext cx="372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gi get their energy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absorbing nutrient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om dead organisms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60" name="Picture 7" descr="fungus"/>
          <p:cNvPicPr/>
          <p:nvPr/>
        </p:nvPicPr>
        <p:blipFill>
          <a:blip r:embed="rId1"/>
          <a:stretch/>
        </p:blipFill>
        <p:spPr>
          <a:xfrm>
            <a:off x="2209680" y="2590920"/>
            <a:ext cx="31244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y enzymes have this ending on their names =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2 factors that can affect the rate of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think would happen to the rate of photosynthesis on a cloudy 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344480" y="9144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-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88440" y="3200400"/>
            <a:ext cx="62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mperature, availability of water,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light intensit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984240" y="579132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would be slower than on a sunny da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_____ is a molecule (like chlorophyll)  that absorbs energy and is used by green plants to absorb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the two types of 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 &amp;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27"/>
          <p:cNvSpPr/>
          <p:nvPr/>
        </p:nvSpPr>
        <p:spPr>
          <a:xfrm>
            <a:off x="1603080" y="76212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igme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460080" y="419112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lorophyll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4498920" y="4038480"/>
            <a:ext cx="31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lorophyll b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phosphate group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olecule of AD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the equation for chang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P into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8328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5320" y="373392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DP + P + energ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 ATP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mpounds are formed fro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dioxide during the Calvin cyc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can continue at n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744280" y="18288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gar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93440" y="48006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other name for the 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are photosystem I and II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are they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448640" y="114300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 IN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46240" y="31240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 are light dependen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 use light to energize electr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92160" y="5181480"/>
            <a:ext cx="39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I- splits water molecu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- NADPH is mad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(n)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954680" y="6858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79" name="Picture 9" descr="tree4"/>
          <p:cNvPicPr/>
          <p:nvPr/>
        </p:nvPicPr>
        <p:blipFill>
          <a:blip r:embed="rId1"/>
          <a:stretch/>
        </p:blipFill>
        <p:spPr>
          <a:xfrm>
            <a:off x="2590920" y="2666880"/>
            <a:ext cx="2887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027"/>
          <p:cNvSpPr/>
          <p:nvPr/>
        </p:nvSpPr>
        <p:spPr>
          <a:xfrm>
            <a:off x="304920" y="380880"/>
            <a:ext cx="883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the chemical equation for photosynthes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+___________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__________ + __________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1" name="Text Box 1028"/>
          <p:cNvSpPr/>
          <p:nvPr/>
        </p:nvSpPr>
        <p:spPr>
          <a:xfrm>
            <a:off x="609480" y="10666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7467480" y="121932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2448720" y="1143000"/>
            <a:ext cx="110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4" name="Rectangle 1031"/>
          <p:cNvSpPr/>
          <p:nvPr/>
        </p:nvSpPr>
        <p:spPr>
          <a:xfrm>
            <a:off x="5446800" y="1143000"/>
            <a:ext cx="140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85" name="Picture 1032" descr="wkshtadpatp"/>
          <p:cNvPicPr/>
          <p:nvPr/>
        </p:nvPicPr>
        <p:blipFill>
          <a:blip r:embed="rId1"/>
          <a:srcRect l="0" t="0" r="0" b="62971"/>
          <a:stretch/>
        </p:blipFill>
        <p:spPr>
          <a:xfrm>
            <a:off x="1295280" y="2590920"/>
            <a:ext cx="6480360" cy="1523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33"/>
          <p:cNvSpPr/>
          <p:nvPr/>
        </p:nvSpPr>
        <p:spPr>
          <a:xfrm>
            <a:off x="75600" y="4371840"/>
            <a:ext cx="61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7" name="Text Box 1034"/>
          <p:cNvSpPr/>
          <p:nvPr/>
        </p:nvSpPr>
        <p:spPr>
          <a:xfrm>
            <a:off x="2363760" y="48769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8" name="Rectangle 1035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026"/>
          <p:cNvSpPr/>
          <p:nvPr/>
        </p:nvSpPr>
        <p:spPr>
          <a:xfrm>
            <a:off x="304920" y="304920"/>
            <a:ext cx="883908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which molecule the H in NADPH originally comes fro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6600" spc="-1" strike="noStrike">
                <a:solidFill>
                  <a:srgbClr val="ff3399"/>
                </a:solidFill>
                <a:latin typeface="Times New Roman"/>
              </a:rPr>
              <a:t>H</a:t>
            </a: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0" name="Text Box 1029"/>
          <p:cNvSpPr/>
          <p:nvPr/>
        </p:nvSpPr>
        <p:spPr>
          <a:xfrm>
            <a:off x="2744640" y="3200400"/>
            <a:ext cx="3826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es from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en water is spli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1" name="Line 1033"/>
          <p:cNvSpPr/>
          <p:nvPr/>
        </p:nvSpPr>
        <p:spPr>
          <a:xfrm flipV="1">
            <a:off x="487692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04920" y="304920"/>
            <a:ext cx="883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imal cells store their glucos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h           Glyc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219320" y="838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5240" y="4371840"/>
            <a:ext cx="626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2363040" y="480060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E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96" name="Picture 13" descr="wkshtadpatp"/>
          <p:cNvPicPr/>
          <p:nvPr/>
        </p:nvPicPr>
        <p:blipFill>
          <a:blip r:embed="rId1"/>
          <a:srcRect l="0" t="55559" r="0" b="9260"/>
          <a:stretch/>
        </p:blipFill>
        <p:spPr>
          <a:xfrm>
            <a:off x="1066680" y="2819520"/>
            <a:ext cx="6480360" cy="1447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2515320" y="274320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98" name="Picture 15" descr="glycogen6"/>
          <p:cNvPicPr/>
          <p:nvPr/>
        </p:nvPicPr>
        <p:blipFill>
          <a:blip r:embed="rId2"/>
          <a:srcRect l="0" t="0" r="0" b="12159"/>
          <a:stretch/>
        </p:blipFill>
        <p:spPr>
          <a:xfrm>
            <a:off x="6477120" y="228600"/>
            <a:ext cx="234288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6"/>
          <p:cNvSpPr/>
          <p:nvPr/>
        </p:nvSpPr>
        <p:spPr>
          <a:xfrm>
            <a:off x="4647960" y="-720"/>
            <a:ext cx="43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academic.brooklyn.cuny.edu/biology/bio4fv/page/glycogen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026"/>
          <p:cNvSpPr/>
          <p:nvPr/>
        </p:nvSpPr>
        <p:spPr>
          <a:xfrm>
            <a:off x="828000" y="4572000"/>
            <a:ext cx="540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1" name="Text Box 1027"/>
          <p:cNvSpPr/>
          <p:nvPr/>
        </p:nvSpPr>
        <p:spPr>
          <a:xfrm>
            <a:off x="304920" y="228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A and B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2" name="Rectangle 1029"/>
          <p:cNvSpPr/>
          <p:nvPr/>
        </p:nvSpPr>
        <p:spPr>
          <a:xfrm>
            <a:off x="1981080" y="457200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 space (space inside thylakoid sac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3" name="Text Box 1031"/>
          <p:cNvSpPr/>
          <p:nvPr/>
        </p:nvSpPr>
        <p:spPr>
          <a:xfrm>
            <a:off x="1906920" y="5562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4" name="Rectangle 1032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05" name="Picture 1034" descr="lite dep rxn a b"/>
          <p:cNvPicPr/>
          <p:nvPr/>
        </p:nvPicPr>
        <p:blipFill>
          <a:blip r:embed="rId1"/>
          <a:stretch/>
        </p:blipFill>
        <p:spPr>
          <a:xfrm>
            <a:off x="380880" y="762120"/>
            <a:ext cx="73152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79440" y="4495680"/>
            <a:ext cx="833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individual membrane sac) = 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space inside the sac) = ____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(stack) = _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(space surrounding the sacs) = 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(space outside the chloroplast) = 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07" name="Picture 11" descr="wksht chloro1 AB"/>
          <p:cNvPicPr/>
          <p:nvPr/>
        </p:nvPicPr>
        <p:blipFill>
          <a:blip r:embed="rId1"/>
          <a:stretch/>
        </p:blipFill>
        <p:spPr>
          <a:xfrm>
            <a:off x="838080" y="152280"/>
            <a:ext cx="7372440" cy="4354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the parts of this chloropla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593800" y="53341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um (pl. gran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344480" y="4876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 spac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5487120" y="44956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79312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021000" y="617220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ytoplas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304920" y="304920"/>
            <a:ext cx="883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 cells store their glucos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h           Glyc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219320" y="838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rc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5240" y="4371840"/>
            <a:ext cx="626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363040" y="480060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E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19" name="Picture 6" descr="wkshtadpatp"/>
          <p:cNvPicPr/>
          <p:nvPr/>
        </p:nvPicPr>
        <p:blipFill>
          <a:blip r:embed="rId1"/>
          <a:srcRect l="0" t="55559" r="0" b="9260"/>
          <a:stretch/>
        </p:blipFill>
        <p:spPr>
          <a:xfrm>
            <a:off x="1066680" y="2819520"/>
            <a:ext cx="6480360" cy="1447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7"/>
          <p:cNvSpPr/>
          <p:nvPr/>
        </p:nvSpPr>
        <p:spPr>
          <a:xfrm>
            <a:off x="3048840" y="274320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21" name="Picture 9" descr="starch"/>
          <p:cNvPicPr/>
          <p:nvPr/>
        </p:nvPicPr>
        <p:blipFill>
          <a:blip r:embed="rId2"/>
          <a:srcRect l="0" t="34015" r="0" b="0"/>
          <a:stretch/>
        </p:blipFill>
        <p:spPr>
          <a:xfrm>
            <a:off x="5181480" y="990720"/>
            <a:ext cx="3463920" cy="7398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"/>
          <p:cNvSpPr/>
          <p:nvPr/>
        </p:nvSpPr>
        <p:spPr>
          <a:xfrm>
            <a:off x="5258880" y="175176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bioweb.wku.edu/courses/Biol115/Wyatt/default.htm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4120" y="144756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51"/>
          <p:cNvSpPr/>
          <p:nvPr/>
        </p:nvSpPr>
        <p:spPr>
          <a:xfrm>
            <a:off x="457200" y="50292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ue-violet and red wavelengths 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2" name="Picture 2052" descr=""/>
          <p:cNvPicPr/>
          <p:nvPr/>
        </p:nvPicPr>
        <p:blipFill>
          <a:blip r:embed="rId1"/>
          <a:srcRect l="0" t="0" r="0" b="14088"/>
          <a:stretch/>
        </p:blipFill>
        <p:spPr>
          <a:xfrm>
            <a:off x="0" y="0"/>
            <a:ext cx="525780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053"/>
          <p:cNvSpPr/>
          <p:nvPr/>
        </p:nvSpPr>
        <p:spPr>
          <a:xfrm>
            <a:off x="2514960" y="220968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4" name="Rectangle 2054"/>
          <p:cNvSpPr/>
          <p:nvPr/>
        </p:nvSpPr>
        <p:spPr>
          <a:xfrm>
            <a:off x="2286000" y="167652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5" name="Text Box 2055"/>
          <p:cNvSpPr/>
          <p:nvPr/>
        </p:nvSpPr>
        <p:spPr>
          <a:xfrm>
            <a:off x="457200" y="0"/>
            <a:ext cx="41148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6" name="Text Box 2058"/>
          <p:cNvSpPr/>
          <p:nvPr/>
        </p:nvSpPr>
        <p:spPr>
          <a:xfrm>
            <a:off x="5715000" y="38088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earson Education, Inc. Publishing as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arson Prentice-Hall.  All rights reserved.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7" name="Rectangle 2059"/>
          <p:cNvSpPr/>
          <p:nvPr/>
        </p:nvSpPr>
        <p:spPr>
          <a:xfrm>
            <a:off x="5332320" y="1193760"/>
            <a:ext cx="366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wavelength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light do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hyll a and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hyll b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b best? </a:t>
            </a:r>
            <a:br>
              <a:rPr sz="3200"/>
            </a:b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molecules of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re needed to make 1 molecule of gluco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the equation showing how NAD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becomes NAD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27"/>
          <p:cNvSpPr/>
          <p:nvPr/>
        </p:nvSpPr>
        <p:spPr>
          <a:xfrm>
            <a:off x="32781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5" name="Rectangle 1028"/>
          <p:cNvSpPr/>
          <p:nvPr/>
        </p:nvSpPr>
        <p:spPr>
          <a:xfrm>
            <a:off x="171000" y="4394160"/>
            <a:ext cx="88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DP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+   high energy e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+   H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on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 NADP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757800" y="3733920"/>
            <a:ext cx="564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el the parts of this molecu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04920" y="380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is molecule used to store and transport energ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75248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P-adenosine triphosphat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982880" y="4572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en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983240" y="571500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e group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982520" y="51814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ibose suga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33" name="Picture 11" descr="wksht ATP abc"/>
          <p:cNvPicPr/>
          <p:nvPr/>
        </p:nvPicPr>
        <p:blipFill>
          <a:blip r:embed="rId1"/>
          <a:srcRect l="0" t="19039" r="0" b="11168"/>
          <a:stretch/>
        </p:blipFill>
        <p:spPr>
          <a:xfrm>
            <a:off x="2209680" y="1676520"/>
            <a:ext cx="44197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304920" y="304920"/>
            <a:ext cx="883908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which molecule each of the atoms that end up in glucose originally came from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6600" spc="-1" strike="noStrike" baseline="-25000">
                <a:solidFill>
                  <a:srgbClr val="33cc33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3399"/>
                </a:solidFill>
                <a:latin typeface="Times New Roman"/>
              </a:rPr>
              <a:t>12</a:t>
            </a: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6600" spc="-1" strike="noStrike" baseline="-25000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 ________     _________</a:t>
            </a:r>
            <a:br>
              <a:rPr sz="2800"/>
            </a:b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764000" y="350532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5117040" y="340668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364920" y="3505320"/>
            <a:ext cx="102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 flipV="1">
            <a:off x="2133720" y="26665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 flipH="1" flipV="1">
            <a:off x="3581280" y="27428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 flipH="1" flipV="1">
            <a:off x="4724280" y="266652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howed Priestle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experiment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ed if the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t 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4640" y="2362320"/>
            <a:ext cx="35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an Ingenhousz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685800" y="3733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4572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lvin Calv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2" name="Text Box 1030"/>
          <p:cNvSpPr/>
          <p:nvPr/>
        </p:nvSpPr>
        <p:spPr>
          <a:xfrm>
            <a:off x="232920" y="3733920"/>
            <a:ext cx="675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earned the Nobel prize for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ing the biochemical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used to make glucose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3" name="Rectangle 1031"/>
          <p:cNvSpPr/>
          <p:nvPr/>
        </p:nvSpPr>
        <p:spPr>
          <a:xfrm>
            <a:off x="228240" y="6247800"/>
            <a:ext cx="46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nobelprize.org/nobel_prizes/chemistry/laureates/1961/calvin-bio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4" name="Rectangle 1033"/>
          <p:cNvSpPr/>
          <p:nvPr/>
        </p:nvSpPr>
        <p:spPr>
          <a:xfrm>
            <a:off x="5410080" y="2971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www2.nsta.org/Energy/find/primer/primer2_8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5" name="Picture 1035" descr="ingenhousz dark"/>
          <p:cNvPicPr/>
          <p:nvPr/>
        </p:nvPicPr>
        <p:blipFill>
          <a:blip r:embed="rId1"/>
          <a:stretch/>
        </p:blipFill>
        <p:spPr>
          <a:xfrm>
            <a:off x="5410080" y="990720"/>
            <a:ext cx="31086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7" descr="Melvin Calvin"/>
          <p:cNvPicPr/>
          <p:nvPr/>
        </p:nvPicPr>
        <p:blipFill>
          <a:blip r:embed="rId2"/>
          <a:stretch/>
        </p:blipFill>
        <p:spPr>
          <a:xfrm>
            <a:off x="7391520" y="4343400"/>
            <a:ext cx="16002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0" b="13512"/>
          <a:stretch/>
        </p:blipFill>
        <p:spPr>
          <a:xfrm>
            <a:off x="0" y="0"/>
            <a:ext cx="5479920" cy="487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360" y="167652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14960" y="243828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73160" y="0"/>
            <a:ext cx="3345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638680" y="38098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y do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not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sorb green light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561280" y="1066680"/>
            <a:ext cx="372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wavelengt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light d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hyll a and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hyll b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rb the least?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V="1">
            <a:off x="1828800" y="3962160"/>
            <a:ext cx="53352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2057400" y="4038480"/>
            <a:ext cx="53352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2362320" y="3962160"/>
            <a:ext cx="53316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562720" y="380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Pearson Education, Inc. Publishing as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son Prentice-Hall.  All rights reserved.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molecule used by living things to store and transfer energy =___________________________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7"/>
          <p:cNvSpPr/>
          <p:nvPr/>
        </p:nvSpPr>
        <p:spPr>
          <a:xfrm>
            <a:off x="1673640" y="1752480"/>
            <a:ext cx="51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/adenosine triphosph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228600" y="28954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scientist further investigated Joseph Priestl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lant under the bell jar experiment. 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termined that light was needed to generate oxygen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0" name="Text Box 1029"/>
          <p:cNvSpPr/>
          <p:nvPr/>
        </p:nvSpPr>
        <p:spPr>
          <a:xfrm>
            <a:off x="297180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an Ingenhousz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of chemical reactions in which the product of one reaction goes on to be the reactant in the next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2520" y="1828800"/>
            <a:ext cx="43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ochemical pathway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3429000"/>
            <a:ext cx="8839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ords to fill in the overall chemical reaction for photosynthesis.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+___________                  __________ + __________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4" name="Picture 8" descr="sunlight paint"/>
          <p:cNvPicPr/>
          <p:nvPr/>
        </p:nvPicPr>
        <p:blipFill>
          <a:blip r:embed="rId1"/>
          <a:stretch/>
        </p:blipFill>
        <p:spPr>
          <a:xfrm>
            <a:off x="4038480" y="4038480"/>
            <a:ext cx="1371600" cy="114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57200" y="41911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rb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oxide            wa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5334120" y="4648320"/>
            <a:ext cx="32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gars          oxyge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ustin Zahm</cp:lastModifiedBy>
  <dcterms:modified xsi:type="dcterms:W3CDTF">2014-02-21T18:44:07Z</dcterms:modified>
  <cp:revision>126</cp:revision>
  <dc:subject/>
  <dc:title>asdfs</dc:title>
</cp:coreProperties>
</file>